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B6089-7E31-48AC-B4C7-C2F43CC7E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4D1D5-2A93-4E39-9BE4-33AED8FDA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8431E-8F2A-41FA-9A9F-CA12E6BD0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A3042-CC30-4D66-B452-AA1F84A78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6824F-FC0B-4DBB-BA70-4573AA1DE0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43143-D6AB-4692-A6FA-9494CDD85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4F248-3F83-4EA6-8B4B-FDB937DCA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E08B0-BF07-4B9F-B381-1A43A823A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6C9D6-3462-4A64-B01D-8A4EB5CAF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8503B-9E50-4D69-B648-68B23DE38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245CD-6C16-4155-88E9-B76E71DFE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760C5-EDAE-4771-8E93-5B7ED2C3D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6BD0F-8D5E-449C-B48E-8945337E7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1E7A0-A38A-48EA-A8EF-C057A68AA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F0A52-52BC-471B-AC1E-2DDA0D53C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5F51A-E2D0-4448-8E88-2DB1DEA199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1B69A6-E8F2-42E7-86D0-7DA0664EB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1797A4-162B-4CA6-87FE-5E807839C0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1DBA40-451B-449B-AA6F-B5F16E5AFA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50FDDF-CDDE-4467-ADFF-C158B1630B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DAA7A2-E19E-40F2-990E-13AAA6B981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F366E3-5B9E-455D-956A-9F8ED0007D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27DA8-6408-426E-8997-953AA3DAA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F87B5D-55AF-4D66-8EA6-163FAB89FA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25B268-75B4-46D5-ACD2-BBF64AE8A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5A728-0074-459C-9A64-1E17B8CB97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CFBAEB-44AF-4210-A74E-4F3146837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0512F6-CD86-4C66-8E70-CEA9CDDB27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737D98-442A-438C-8770-F774CD2E35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D22FAB-701F-4FA5-AAF9-0056E6A7B8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A109BB-CB9E-40EB-9B40-6FB97DB60F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B1378A-056B-4B67-970C-FF6D7542B8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FA2622-4FF7-4328-AE17-B8E6E7EB7E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43671-1F82-4EF1-BA90-15E6D86F0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3769D1-5C13-4FBC-B730-DE8281CDE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A5BDE0-3E45-4E59-8C52-E8A38FDEAC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95A0D0-9F21-4430-AD6A-9C8209D34D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0406D1-778F-477D-98E6-269235E5CC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B002DF-E485-4E5F-9304-8A91B68434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A08F97-E46F-4D1B-B319-B904A56870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6D06CC-135F-451B-B28C-8FD3DF9706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5EB37B-D30C-49E5-85E3-A6915B6EC8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B3C185-7DEA-4840-B4FE-0EDBAB8ACA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FAB3C-A498-47D2-9B6F-E42DE886B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A2FB1-56D9-45B2-846E-4796AFF28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34DE5-4650-4C18-86A2-FA844C8E2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1BDF3-9FA2-4F24-BEFC-ACC1CA08A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33478-A9C6-4CDD-9BCE-68DFCF369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B35D-13D4-4EAA-988C-99693E5AEF4B}"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CA63-A95F-4C65-B474-EA027665458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14232-4530-4D85-89EC-542F3203B276}" type="datetime">
              <a:rPr b="0" lang="en-US" sz="1200" spc="-1" strike="noStrike">
                <a:solidFill>
                  <a:srgbClr val="d1eaee"/>
                </a:solidFill>
                <a:latin typeface="Arial"/>
              </a:rPr>
              <a:t>07/31/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444D-6DEE-45A6-AAC0-E08372119E5E}"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8760A-E8FC-4CE1-B928-B2B7D3F07E82}" type="datetime">
              <a:rPr b="0" lang="en-US" sz="1200" spc="-1" strike="noStrike">
                <a:solidFill>
                  <a:srgbClr val="d1eaee"/>
                </a:solidFill>
                <a:latin typeface="Arial"/>
              </a:rPr>
              <a:t>07/31/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D446-4662-418B-891F-97D81C1AE739}"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4549-723A-4E15-93F9-752DBC4B4ABF}"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16E7-78ED-4C51-B83A-0679EEFE202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D35B7-6FC2-4135-8DB5-8FE95A96A13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90670-13A4-4BBB-BD70-9A95E2DEF0B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CF3E-D3BF-4F34-86D6-68543EE6732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9D3A-64E2-4BEC-AA43-F6D5274B5A1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0C2A8-3C38-40B5-BFA7-CC190F439BC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419E-1D20-4BBD-BCBF-B4ED63167FA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4E8F-7453-46B1-A490-99971795A0C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D10F-52FC-4F29-B388-CE39B771BD0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7AD9C-B19F-4ACD-A78B-8EA54B7F8EF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D2A0-4E2D-4E73-8019-46659E710F1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3D80-4992-4809-BD43-5824ABAEA5A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8749-3BFA-4524-ABC1-548BB9B58B7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EEAB-3DD1-41B7-8919-2E940744DFC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